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92CB-3C30-440C-95AE-2B52D902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E2F0-7EF7-4754-B148-7A64D9D1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ED13-12F3-4753-B740-25C59B12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5CC0-DA58-4BB8-81C6-1B559289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E93C-B611-4A2C-ABFF-FBE2CFF3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A9A5-389B-4859-9123-CA0D048B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78ED-262F-4817-B62F-16B178EF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C49F-9793-407F-A566-9891D5D6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B7D9-69B6-4388-BDCA-55555413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D79B-78A8-4A1D-9105-3F407AEE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E552-EA1B-43A0-A4C2-9F2DC259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F6F9-4C1D-4AE2-84CA-803DD488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7B9E-6FDD-4068-AEC9-6CA6956D1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ry Movement Que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Fisher Midg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picture is Naturalis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cture is of naturalism because it shows an event that naturally occurs in the environment around u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endental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hilosophical movement that developed in the New England region as a general protest to culture and society as a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ssed a change to happen in society and culture to make life bet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004840" y="933480"/>
            <a:ext cx="513432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picture is Transcendentalism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icture shows transcendentalism because it is showing change. This picture is meant to represent someth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Google Images."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eb. 21 Feb. 201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rson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American Expiri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Boston: Pearson, 2007. Pri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tic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anticism was an artistic, literary, and intellectual movement that originated in the second half of the 18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s imagination, emotion, nature, individuality, and exo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230px-Szarza_w_wawozie_Somosierra"/>
          <p:cNvPicPr/>
          <p:nvPr/>
        </p:nvPicPr>
        <p:blipFill>
          <a:blip r:embed="rId1"/>
          <a:stretch/>
        </p:blipFill>
        <p:spPr>
          <a:xfrm>
            <a:off x="2590920" y="533520"/>
            <a:ext cx="40273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picture is Romanticis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icture shows Romanticism because it shows forms of emotion, imagination, and also nature in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m is  the presentation of art of the details of actual life during th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ovement stressed the actual instead of the imagined or fanci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250px-Millet_Gleaners"/>
          <p:cNvPicPr/>
          <p:nvPr/>
        </p:nvPicPr>
        <p:blipFill>
          <a:blip r:embed="rId1"/>
          <a:stretch/>
        </p:blipFill>
        <p:spPr>
          <a:xfrm>
            <a:off x="1447920" y="868320"/>
            <a:ext cx="632448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picture is Realis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cture is of realism because it shows the actual life of the people while they are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terary movement that used detailed realism to suggest that social conditions, heredity, and the environment had an inescapable force in shaping human charac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ssed the things around you that were happening every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2437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5:00:24Z</dcterms:created>
  <dc:creator>dcsuser</dc:creator>
  <dc:description/>
  <dc:language>en-US</dc:language>
  <cp:lastModifiedBy>FISHER</cp:lastModifiedBy>
  <dcterms:modified xsi:type="dcterms:W3CDTF">2012-02-23T03:17:09Z</dcterms:modified>
  <cp:revision>10</cp:revision>
  <dc:subject/>
  <dc:title>Literary Movement Quest </dc:title>
</cp:coreProperties>
</file>